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347AC-5E2D-489F-A891-B240C74A7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A8FAC-4FE1-44C4-B6FF-CAC113414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231BF-020C-4B09-9B6D-8F93E56EF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32191-55FD-4E7C-B669-8C8EB6224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6C055-8F2A-4F66-BFD2-00EA3A53F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60B3E-0AD6-4E96-AEF5-43FDD39F7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7507B-FF7D-4F8D-BB9E-6C182C14B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BC274-63EF-4F57-8895-3A7552C76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BF9CB-12F4-4B20-983D-2BE534ED2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6EC61-8218-4756-826C-D9519506F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2943D-98A9-479C-BD6E-AA5C15017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F88BC-B3CF-422E-AF92-CAE6A862F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69BF5-D70D-4B85-B503-4ADAB706C8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2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21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f a picture is worth a thousand words……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848720" y="228600"/>
            <a:ext cx="1066680" cy="9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-685800" y="0"/>
            <a:ext cx="11506320" cy="68324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3520" y="129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times the path is smooth…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7848720" y="228600"/>
            <a:ext cx="1066680" cy="9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ny times the road has been blocked…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2286000" y="1828800"/>
            <a:ext cx="4330800" cy="44197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7696080" y="1447920"/>
            <a:ext cx="1067040" cy="9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-685800" y="0"/>
            <a:ext cx="9829800" cy="680076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4191120" y="38088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@#@#@#&amp;&amp;*****%%!!!!!!!!!!!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7772400" y="1066680"/>
            <a:ext cx="1066680" cy="9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866920" y="837720"/>
            <a:ext cx="2514600" cy="29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have encountered many forks in the road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304920" y="228600"/>
            <a:ext cx="5084640" cy="63547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7848720" y="228600"/>
            <a:ext cx="1066680" cy="9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312408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 have discovered the road less traveled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4038480" y="304920"/>
            <a:ext cx="4614840" cy="61722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7848720" y="228600"/>
            <a:ext cx="1066680" cy="9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-1295280" y="0"/>
            <a:ext cx="10820160" cy="688968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304920" y="228600"/>
            <a:ext cx="4419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28600" y="304920"/>
            <a:ext cx="746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t times, confusion!!!!!!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47920" y="6095880"/>
            <a:ext cx="746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feeling of going nowhere fast!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7848720" y="228600"/>
            <a:ext cx="1066680" cy="9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-1219320" y="0"/>
            <a:ext cx="10363320" cy="690228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d the joys of enlightenment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1600200" y="685800"/>
            <a:ext cx="5943600" cy="520056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1905120" y="1066680"/>
            <a:ext cx="281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y: Trish, Sherri, Patti, and Darry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1295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.is a computer worth a million pictur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7848720" y="228600"/>
            <a:ext cx="1066680" cy="9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r is it a window to the world?.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7848720" y="228600"/>
            <a:ext cx="1066680" cy="933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7200" y="7621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 world of endless possibility…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7848720" y="228600"/>
            <a:ext cx="1066680" cy="9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2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457200" y="9144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-LITE has taken us on a journe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7848720" y="228600"/>
            <a:ext cx="1066680" cy="9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4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52280" y="1447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 journey..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…of learning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..of teach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14600" y="2819520"/>
            <a:ext cx="3733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.o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iscove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7848720" y="228600"/>
            <a:ext cx="1066680" cy="9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3733920" y="0"/>
            <a:ext cx="5410080" cy="35290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5029200" cy="37656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7848720" y="228600"/>
            <a:ext cx="1066680" cy="9334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5"/>
          <a:stretch/>
        </p:blipFill>
        <p:spPr>
          <a:xfrm>
            <a:off x="4038480" y="3279600"/>
            <a:ext cx="5105520" cy="35784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6"/>
          <a:stretch/>
        </p:blipFill>
        <p:spPr>
          <a:xfrm>
            <a:off x="0" y="3314880"/>
            <a:ext cx="4724280" cy="35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journey full of many peaks…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7467480" y="1447920"/>
            <a:ext cx="1067040" cy="9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-533520" y="0"/>
            <a:ext cx="10287000" cy="683748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and valley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7848720" y="228600"/>
            <a:ext cx="1066680" cy="9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7:02:23Z</dcterms:created>
  <dc:creator>SET </dc:creator>
  <dc:description/>
  <dc:language>en-US</dc:language>
  <cp:lastModifiedBy>SET </cp:lastModifiedBy>
  <dcterms:modified xsi:type="dcterms:W3CDTF">2008-07-12T21:23:33Z</dcterms:modified>
  <cp:revision>5</cp:revision>
  <dc:subject/>
  <dc:title>If a picture is worth a thousand words………</dc:title>
</cp:coreProperties>
</file>